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13B2BB-F4AE-48A8-B858-1F20B26B0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lesson is about 9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8C849FA-3A0C-411E-A60F-0D427CB9B1D7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k: What is it? A tweet  Who wrote it? Hazel Healy  Did she write the article?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FED28E-AADD-4DCE-9908-5A3352A7008B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arify/elicit the nature of a tweet – 140 characters maximum. Students can write on slips to pass around, or onto the board(s) or flipchart paper and share and corr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AF22C4-DCF8-4B1E-9804-C3B44F50FDD1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Y:  1) drowned  2) capsize  3)  dissuaded   4)  attempting  5) high (winds)  6) rough (seas)  7) path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59E60E-F743-46AD-AD7B-9644BDC279EC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 can cut up words/phrases and definitions and get learners, in groups, to discuss and match. Or do this to the screen, or handou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Y:  1/f   2/b   3/i   4/d   5/e   6/h  7/g  8/a   9/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436576-5387-484E-AF6B-B2798BFA6964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Y: Refugee crisis in Lesbos gets worse as winter 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2964D0-5803-4C1A-BE8A-B956E1D51079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ugees in Lesbos wanting to escape to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4541931-1096-4623-9B74-C0D156DF2EDE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dents predict answers in pairs and then read to check KEY: 1) Yes  2) Yes  3) Yes  4) Yes  5) No  6)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20449F-D402-484C-959E-8614B2847D1B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EY: 1) Yes  2) Yes  3)  No  4) Yes   5) 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AE8B887-C8A0-4DDB-B621-7CC8A0C61128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66E1-DE4C-41AF-937D-883B958F8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4879-70E9-429A-8D3E-683E5713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A81C-EBB0-42C5-ACB5-41A618565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7494-4162-4723-8740-7ADF7BBD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CB28-5A55-400F-A695-59342F784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010A-2181-49C7-AE95-49041A58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133E-5134-4BB7-8803-806CB4A8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09CA-E4AE-46C0-8BFC-23D4B642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F93A-5ED9-4A73-B62B-9B96A892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3C30-5252-49A6-94A3-88823C01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172A-7579-43D4-A351-4731CEC7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38AC-392F-41D7-BE62-0B99079D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D0CE-3A41-4A77-9DD5-81B2FA73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6BCA-35D9-4E58-B120-7551457F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3761-5CE9-4CE0-835D-62C88E4C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C9AF-F810-407F-AD73-9A70E5534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40DC-7409-4831-AACA-6CDF0729C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32E44-4A75-47B3-A733-018C27B4A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55F6F-806F-48A6-8AB1-0878A340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13965-7409-48E0-9B53-F923303C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258D4-4EDA-4D77-A6B3-CB2AD566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E6494-72F2-4303-8222-AE37EAA5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2EA8-5BD8-4B6E-8B21-DF08CE93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FD413-A08B-423F-BE72-558F0E870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9D14A-5B03-4DDD-A06B-477147B3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7475C-34D2-450E-B566-58BB85F4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77152-5AB4-4565-9292-60A841F6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6A4F9-87D4-4207-B596-4EE7E10A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0EDB8-0C67-4354-80B5-594CF8330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2A66B-DA26-415B-962D-5353EB792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9D799-BD30-4686-B0F2-AABB8BFB4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7DA44-A075-4BDA-AD9D-C945EBBC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58C9C-FC61-4225-98CC-C1B72938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7680-F4F2-410D-A58C-93D4A788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B497A-D64C-4230-B01F-F397E8D5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32AE6-D03E-4083-A03A-B8D092ED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D6732-AD5F-424C-8B61-540028C2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D3739-A3DB-4CC9-9209-5E6F603F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190EE-D904-4151-9287-92E04F00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6956A-AE7D-44B0-A0B4-CD7833FA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32ACB-3249-41E5-9D02-5F93D5F81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E1F69-42A9-4029-8D01-767BA23F8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3074F-5B6A-4A86-B094-38FC14F79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D44A-88BF-426B-8DB6-B4F7C6A9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DD07-E4CD-4DAE-A90B-9411A52A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54FA-04DF-47C9-A279-4C0D2D57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91F5-1956-4EC6-B5C1-DAC912DF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CCF6-AAB4-48D6-816A-435AC456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55F985-F7EC-4338-8D50-4EB552984701}" type="slidenum">
              <a:rPr b="0" lang="en-GB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26FE79-717A-426C-ADD0-2E06E2FE9A2A}" type="slidenum">
              <a:rPr b="0" lang="en-GB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BFBE49-F9D6-4891-B74A-4D20B1B3EA37}" type="slidenum">
              <a:rPr b="0" lang="en-GB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GB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8B5835-5300-42B5-B794-70F39FAC8897}" type="slidenum">
              <a:rPr b="0" lang="en-GB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newint.org/blog/2015/11/04/refugee-crisis-worsens-in-lesbos-as-winter-looms/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827820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5000"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1f497d"/>
                </a:solidFill>
                <a:latin typeface="Calibri"/>
              </a:rPr>
              <a:t>Ref                           </a:t>
            </a:r>
            <a:r>
              <a:rPr b="1" lang="en-GB" sz="6000" spc="-1" strike="noStrike">
                <a:solidFill>
                  <a:srgbClr val="1f497d"/>
                </a:solidFill>
                <a:latin typeface="Calibri"/>
              </a:rPr>
              <a:t>Refugees in</a:t>
            </a:r>
            <a:br>
              <a:rPr sz="6000"/>
            </a:br>
            <a:r>
              <a:rPr b="1" lang="en-GB" sz="6000" spc="-1" strike="noStrike">
                <a:solidFill>
                  <a:srgbClr val="1f497d"/>
                </a:solidFill>
                <a:latin typeface="Calibri"/>
              </a:rPr>
              <a:t>                   Lesbo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4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e-Intermediat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w Internationalis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asier English ready le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3949200" y="148680"/>
            <a:ext cx="5175000" cy="1292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2"/>
          <a:stretch/>
        </p:blipFill>
        <p:spPr>
          <a:xfrm>
            <a:off x="395640" y="1333800"/>
            <a:ext cx="4334400" cy="288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we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Hazel Hea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                     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@hazel_he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irst night on Lesbos. Arrived and  heard a ship sank, hundreds of refugees died in the se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755640" y="1484640"/>
            <a:ext cx="1616760" cy="16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we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en-GB" sz="4800" spc="-1" strike="noStrike">
                <a:solidFill>
                  <a:srgbClr val="1f497d"/>
                </a:solidFill>
                <a:latin typeface="Calibri"/>
              </a:rPr>
              <a:t>Write a tweet about the situation in Lesbos to the head of your government. A tweet can only be 140 characters at most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5940000" y="332640"/>
            <a:ext cx="1804680" cy="120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240" cy="54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indent="0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r>
              <a:rPr b="1" lang="en-GB" sz="4600" spc="-1" strike="noStrike">
                <a:solidFill>
                  <a:srgbClr val="1f497d"/>
                </a:solidFill>
                <a:latin typeface="Calibri"/>
              </a:rPr>
              <a:t>Read the original article and find words which me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70160" indent="-470160">
              <a:lnSpc>
                <a:spcPct val="100000"/>
              </a:lnSpc>
              <a:spcBef>
                <a:spcPts val="921"/>
              </a:spcBef>
              <a:buClr>
                <a:srgbClr val="1f497d"/>
              </a:buClr>
              <a:buFont typeface="Arial"/>
              <a:buAutoNum type="arabicParenR"/>
              <a:tabLst>
                <a:tab algn="l" pos="0"/>
              </a:tabLst>
            </a:pPr>
            <a:r>
              <a:rPr b="1" lang="en-GB" sz="4600" spc="-1" strike="noStrike">
                <a:solidFill>
                  <a:srgbClr val="1f497d"/>
                </a:solidFill>
                <a:latin typeface="Calibri"/>
              </a:rPr>
              <a:t>died in the sea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70160" indent="-470160">
              <a:lnSpc>
                <a:spcPct val="100000"/>
              </a:lnSpc>
              <a:spcBef>
                <a:spcPts val="921"/>
              </a:spcBef>
              <a:buClr>
                <a:srgbClr val="1f497d"/>
              </a:buClr>
              <a:buFont typeface="Arial"/>
              <a:buAutoNum type="arabicParenR"/>
              <a:tabLst>
                <a:tab algn="l" pos="0"/>
              </a:tabLst>
            </a:pPr>
            <a:r>
              <a:rPr b="1" lang="en-GB" sz="4600" spc="-1" strike="noStrike">
                <a:solidFill>
                  <a:srgbClr val="1f497d"/>
                </a:solidFill>
                <a:latin typeface="Calibri"/>
              </a:rPr>
              <a:t>when boats turn over in the sea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70160" indent="-470160">
              <a:lnSpc>
                <a:spcPct val="100000"/>
              </a:lnSpc>
              <a:spcBef>
                <a:spcPts val="921"/>
              </a:spcBef>
              <a:buClr>
                <a:srgbClr val="1f497d"/>
              </a:buClr>
              <a:buFont typeface="Arial"/>
              <a:buAutoNum type="arabicParenR"/>
              <a:tabLst>
                <a:tab algn="l" pos="0"/>
              </a:tabLst>
            </a:pPr>
            <a:r>
              <a:rPr b="1" lang="en-GB" sz="4600" spc="-1" strike="noStrike">
                <a:solidFill>
                  <a:srgbClr val="1f497d"/>
                </a:solidFill>
                <a:latin typeface="Calibri"/>
              </a:rPr>
              <a:t>advised not to do something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70160" indent="-470160">
              <a:lnSpc>
                <a:spcPct val="100000"/>
              </a:lnSpc>
              <a:spcBef>
                <a:spcPts val="921"/>
              </a:spcBef>
              <a:buClr>
                <a:srgbClr val="1f497d"/>
              </a:buClr>
              <a:buFont typeface="Arial"/>
              <a:buAutoNum type="arabicParenR"/>
              <a:tabLst>
                <a:tab algn="l" pos="0"/>
              </a:tabLst>
            </a:pPr>
            <a:r>
              <a:rPr b="1" lang="en-GB" sz="4600" spc="-1" strike="noStrike">
                <a:solidFill>
                  <a:srgbClr val="1f497d"/>
                </a:solidFill>
                <a:latin typeface="Calibri"/>
              </a:rPr>
              <a:t>trying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70160" indent="-470160">
              <a:lnSpc>
                <a:spcPct val="100000"/>
              </a:lnSpc>
              <a:spcBef>
                <a:spcPts val="921"/>
              </a:spcBef>
              <a:buClr>
                <a:srgbClr val="1f497d"/>
              </a:buClr>
              <a:buFont typeface="Arial"/>
              <a:buAutoNum type="arabicParenR"/>
              <a:tabLst>
                <a:tab algn="l" pos="0"/>
              </a:tabLst>
            </a:pPr>
            <a:r>
              <a:rPr b="1" lang="en-GB" sz="4600" spc="-1" strike="noStrike">
                <a:solidFill>
                  <a:srgbClr val="1f497d"/>
                </a:solidFill>
                <a:latin typeface="Calibri"/>
              </a:rPr>
              <a:t>strong (winds)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70160" indent="-470160">
              <a:lnSpc>
                <a:spcPct val="100000"/>
              </a:lnSpc>
              <a:spcBef>
                <a:spcPts val="921"/>
              </a:spcBef>
              <a:buClr>
                <a:srgbClr val="1f497d"/>
              </a:buClr>
              <a:buFont typeface="Arial"/>
              <a:buAutoNum type="arabicParenR"/>
              <a:tabLst>
                <a:tab algn="l" pos="0"/>
              </a:tabLst>
            </a:pPr>
            <a:r>
              <a:rPr b="1" lang="en-GB" sz="4600" spc="-1" strike="noStrike">
                <a:solidFill>
                  <a:srgbClr val="1f497d"/>
                </a:solidFill>
                <a:latin typeface="Calibri"/>
              </a:rPr>
              <a:t>dangerous (seas)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470160" indent="-470160">
              <a:lnSpc>
                <a:spcPct val="100000"/>
              </a:lnSpc>
              <a:spcBef>
                <a:spcPts val="921"/>
              </a:spcBef>
              <a:buClr>
                <a:srgbClr val="1f497d"/>
              </a:buClr>
              <a:buFont typeface="Arial"/>
              <a:buAutoNum type="arabicParenR"/>
              <a:tabLst>
                <a:tab algn="l" pos="0"/>
              </a:tabLst>
            </a:pPr>
            <a:r>
              <a:rPr b="1" lang="en-GB" sz="4600" spc="-1" strike="noStrike">
                <a:solidFill>
                  <a:srgbClr val="1f497d"/>
                </a:solidFill>
                <a:latin typeface="Calibri"/>
              </a:rPr>
              <a:t>routes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ewint.org/blog/2015/11/04/refugee-crisis-worsens-in-lesbos-as-winter-loom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6300360" y="3861000"/>
            <a:ext cx="1810800" cy="120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Today’s lesson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1f497d"/>
              </a:buClr>
              <a:buFont typeface="Arial"/>
              <a:buChar char="•"/>
            </a:pPr>
            <a:r>
              <a:rPr b="1" lang="en-GB" sz="7200" spc="-1" strike="noStrike">
                <a:solidFill>
                  <a:srgbClr val="1f497d"/>
                </a:solidFill>
                <a:latin typeface="Calibri"/>
              </a:rPr>
              <a:t>Vocabulary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1f497d"/>
              </a:buClr>
              <a:buFont typeface="Arial"/>
              <a:buChar char="•"/>
            </a:pPr>
            <a:r>
              <a:rPr b="1" lang="en-GB" sz="7200" spc="-1" strike="noStrike">
                <a:solidFill>
                  <a:srgbClr val="1f497d"/>
                </a:solidFill>
                <a:latin typeface="Calibri"/>
              </a:rPr>
              <a:t>Reading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1f497d"/>
              </a:buClr>
              <a:buFont typeface="Arial"/>
              <a:buChar char="•"/>
            </a:pPr>
            <a:r>
              <a:rPr b="1" lang="en-GB" sz="7200" spc="-1" strike="noStrike">
                <a:solidFill>
                  <a:srgbClr val="1f497d"/>
                </a:solidFill>
                <a:latin typeface="Calibri"/>
              </a:rPr>
              <a:t>Writing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5652000" y="1484640"/>
            <a:ext cx="294120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640" y="116640"/>
            <a:ext cx="2592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3000"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ff0000"/>
                </a:solidFill>
                <a:latin typeface="Calibri"/>
              </a:rPr>
              <a:t>Matc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3024000" cy="59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1/ refuge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2/ rescu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3/ equi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4/ urg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5/ sear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6/ impro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7/ leg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8/ saf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9/ rou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2915640" y="116640"/>
            <a:ext cx="6228000" cy="674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a)  opposite of danger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b)  help someone from a danger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sit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c)  way to go from one place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an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d)  very, very 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e)  look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1200" indent="-511200">
              <a:lnSpc>
                <a:spcPct val="100000"/>
              </a:lnSpc>
              <a:spcBef>
                <a:spcPts val="641"/>
              </a:spcBef>
              <a:buClr>
                <a:srgbClr val="1f497d"/>
              </a:buClr>
              <a:buFont typeface="Arial"/>
              <a:buAutoNum type="alphaLcParenR" startAt="6"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person who wants to go to another country because of dang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g)   Ok with the la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h)   get bet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i)    machin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00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Put the headline in the right or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2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7000"/>
          </a:bodyPr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worse 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winter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as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Refugee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Lesbos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crisis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in 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gets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460"/>
              </a:spcBef>
              <a:buNone/>
              <a:tabLst>
                <a:tab algn="l" pos="0"/>
              </a:tabLst>
            </a:pPr>
            <a:r>
              <a:rPr b="1" lang="en-US" sz="12300" spc="-1" strike="noStrike">
                <a:solidFill>
                  <a:srgbClr val="1f497d"/>
                </a:solidFill>
                <a:latin typeface="Calibri"/>
              </a:rPr>
              <a:t>comes.</a:t>
            </a:r>
            <a:endParaRPr b="0" lang="en-US" sz="12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655200" y="1630800"/>
            <a:ext cx="259488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ho are they? Where are they? Why are they the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1222200" y="1700640"/>
            <a:ext cx="6818760" cy="45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hat do you think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7640" y="1388880"/>
            <a:ext cx="8229240" cy="51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1 A woman wrote the article. Yes/n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2 There are  refugees  in Lesbos. Yes/n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3 Lesbos is in Greece. Yes/n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4 Lesbos is an island. Yes/n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5 Lesbos is 100 km from Turkey. Yes/n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6 60 refugees died in 5 days. Possibl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Now read and check your 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271440" y="131400"/>
            <a:ext cx="180468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3640" cy="63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In the 5 days Hazel was on Lesbos, she heard  more than 60 people died in the Aegean Sea trying to get to Europe. About half of these were children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Refugees have not stopped crossing the dangerous 10km of water from Turkey because of bad winter weather. More of them are crossing now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alibri"/>
              </a:rPr>
              <a:t>There are strong winds and rough seas. The rescue boats do not have enough money or equipment. So many refugee boats often do not get across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Read again and find the 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9640" y="1268640"/>
            <a:ext cx="8229240" cy="511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1 About 30 children died in the sea. Yes/n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2 The weather is a big problem for the boats. Yes/n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3 The boats are in good condition. Yes/n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4 Most of the refugees on their way to Europ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died in October this year. Yes/n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5 Countries must make it easier for refuge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en-GB" sz="3600" spc="-1" strike="noStrike">
                <a:solidFill>
                  <a:srgbClr val="1f497d"/>
                </a:solidFill>
                <a:latin typeface="Calibri"/>
              </a:rPr>
              <a:t>to go to Europe. Yes/n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6588360" y="5373360"/>
            <a:ext cx="180468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68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the 5 days Hazel was on Lesbos, more than 60 people died in the Aegean Sea trying to get to Europe. About half of these were childr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fugees have not stopped crossing the dangerous 10km of water from Turkey because of bad winter weather. More of them are crossing n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re are strong winds and rough seas. The rescue boats do not have enough money or equipment. So many refugee boats often do not get acro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undreds of people have died trying to get to Europe this year, half of them in October. The United Nations High Commissioner for Refugees said it is urgent for search-and-rescue to improve. He says countries must make more legal, safe routes for refugees to get to Euro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  <Words>794</Words>
  <Paragraphs>10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1T14:21:53Z</dcterms:created>
  <dc:creator>windows 7 image</dc:creator>
  <dc:description/>
  <dc:language>en-US</dc:language>
  <cp:lastModifiedBy>Linda Ruas</cp:lastModifiedBy>
  <dcterms:modified xsi:type="dcterms:W3CDTF">2015-12-02T19:38:42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9</vt:r8>
  </property>
  <property fmtid="{D5CDD505-2E9C-101B-9397-08002B2CF9AE}" pid="3" name="PresentationFormat">
    <vt:lpwstr>On-screen Show (4:3)</vt:lpwstr>
  </property>
  <property fmtid="{D5CDD505-2E9C-101B-9397-08002B2CF9AE}" pid="4" name="Slides">
    <vt:r8>12</vt:r8>
  </property>
</Properties>
</file>